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9E9-DD2E-47BB-8214-6C318CF1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150-F5B0-4D58-BE98-AB60846C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184-27F3-4308-B6A7-3859F39B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A88-65B4-4B40-9F06-196C2D53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95C-882F-46B0-B04A-EE65F5B4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B86-C2BA-4DCB-9ABD-68697DE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49B-E41E-4AA2-A8A4-FFEE390C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845-DEDA-47B2-B234-822CB1BE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EF2-4B11-40CD-B23A-FBFF1A6C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06E-2454-4EE1-992C-0DAE2EB8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C50-B80D-40CB-9DEF-11E6791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61C-7BA0-4529-9144-C76EA99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DBC1-2FCB-4C45-866F-D68531529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e cho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s agents du siège en work-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 servic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en partie par les secrétaires avec d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manuellement par les agents s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ntrôles hiérarch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non exhaustiv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bsence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20 K€ par 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stissement informatique init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de mise en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 avec appels à expert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 commerciale des répon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s statist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responsabilisation d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in de temps pour l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standardisation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52Z</dcterms:modified>
  <cp:revision>10</cp:revision>
  <dc:subject/>
  <dc:title>Présentation PowerPoint</dc:title>
</cp:coreProperties>
</file>